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6BE7-C8C4-4B4D-B8CE-020CF847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FA0-9F8A-4C1D-B8B4-92BC93CD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BB0BB-8B4A-4EFA-B422-5C5351DB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83239-9EDD-4C46-B82E-FA593A29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61BEE-D651-4BA4-8003-99F7155E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CCF36-2B5C-4DE3-830A-6E5E0ADB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087FB-2B20-4C5C-B0B7-7685D2B3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60EC4-0D02-443C-BAC9-E7D69227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D2CA1-BAA5-4872-89F2-2278B1F0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CD510-10D8-4622-8726-FA521284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2CB44-8CB0-4E11-A01F-D21749F0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89853-D5C7-4CD8-9870-79F061F0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FAC4-0C75-4044-95F8-4265154D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07267-8D29-430E-97E4-B2501B5E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ABB61-1435-4356-A6AA-02782A01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1ED24-6749-4885-B056-1804AD5D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CCB43-B60E-4C53-89A0-63F6D3BA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0D193-8377-44FC-9921-ADAB3E89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5DF9A-B0EF-462D-A2B8-1429476D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6434A-89F4-4EB7-8CAA-5C77C5C8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0C8EE-25C0-44F8-AA51-BDF108A4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791CA-120C-4568-9A6C-0BC6465D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63BF6-746C-491E-A6CA-C9301CC1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9616-D853-4BDA-8511-D2FB2474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0DBA8-AD9C-4809-B2DD-E6BE98DA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A7D88-987E-4D1B-A382-51D2F207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0840E-4D6E-4767-88B5-0DD33D3B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E6037-4B97-4107-AA26-9C1A7B55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66A58-F1FB-45A4-8EFC-91BEFF09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D8255-6703-4119-9251-213ED805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D8C3A-5376-4C9C-B20C-DD483C92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88615-2BD1-4F2A-8DE6-DB201FEC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3D1FD-FF44-4B45-8F86-FDA09F6E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45BF7-5F1F-4B30-9CF6-ABF44D47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B26B-6644-4276-9A87-67709631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BC25E-CAE9-499D-B078-0754EF79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D0186-A220-4785-B4A4-A76AD6EA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B9AA6-E7A3-4BFA-B62C-0C3E5D93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ADB98-DCE5-41CC-BBD1-D832BB51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92618-E73B-4565-9BFD-F0076B6A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BB678-F1D6-47EF-9734-EC83EF74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BBD88-F46F-4A7B-91DC-FA003294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D427B-B9C8-4230-940B-7C62B62B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EAEAC-39DF-4BAB-B55A-80CD76DD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7E410-0E7F-4CE7-9FD5-7FCFC77F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B068-D904-4BF3-AEB1-E4CE71A1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FE9C4-4682-458E-8C48-DAD27682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23FA3-2C73-4780-84D7-5A0C9958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65BF8-6868-4DE5-ABAF-EEB609D7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F0646-DE73-4033-A514-814D9371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B0370-6ABF-4BCD-8E6A-C053F48F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8A50-E4AC-4CDE-8170-799BEC88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9E3B-C240-401F-AB99-3CC3266D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4D75-B543-49CB-BB16-C6D9FD29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28B8-7C15-4C48-9D29-C3BEABB2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28F8-7E40-44A0-9FDD-20C5901A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1E2-C782-4942-B233-3F7A4561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4676-4831-4205-8880-255971D6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E742-7E7B-4C65-936A-9F5D4735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658B-7E85-42D3-98B6-13D20723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2881-8F77-4183-98FA-219FC2EF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9D4F-645D-404D-BD4D-CCDC5B0B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EDFA5-F6AE-478F-99D4-9EE5ADC6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D0860-0502-45E0-B97E-CDEDBE94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78C7C-EA1B-49E6-9D5D-DF279F87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A152A-2B6C-4616-AB1B-98133A23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48AF8-48D6-4547-8A56-99FC3412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E683-9C1F-4C7B-A90B-4DAD79FD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F9A8B-AD89-40FC-B827-E3262646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BA4E4-21B0-4C28-938D-3D93FB0D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7E9BE-7538-4F3B-B0F0-5719B811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7CCB6-1A0E-4562-875E-F1D3D4F4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32050-7173-446A-939F-96C489C9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8B2CA-76A7-418D-AAD8-9662CECF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93871-8F70-470D-B715-CBEA2A13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4372D-76D2-4A32-BC7F-A098ED84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5C684-99C8-4086-B35D-A9F5D69D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CD230-1E77-4553-ACDF-2A071A59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90A4-6FA7-46DE-B0CB-3688FD9F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6EB20-4C24-4218-9B9F-35E34BC7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997E4-30D4-4F09-A3DF-C7BE82B5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56939-4CC1-4EF2-9804-F436D2DA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8F5F0-A85E-4159-A8C4-C5586891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D7F27-FD36-4833-933E-6E680185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5FC85-74FC-4C7F-8745-0970E32D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FB34D-84A1-4895-B79D-0740BFA7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4E9D9-F847-4129-8395-3B044B38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FAE0A-A0ED-4C0A-8BA2-302895F1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6AFED-833B-402D-87EF-649BE1EA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3044-320C-49E7-AA36-76D4ED53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58B2B-2530-420D-A137-3602EB28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4A054-EDE0-498B-BA6B-01906A19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7EFBC-2CC9-4A4E-80E6-70AB938B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752EF-9BBC-4565-8050-821E4331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961EC-430E-430F-A107-EABB55D8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1F3E3-B26B-49B9-9395-72770429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42850-CD93-4D9B-B1BF-95CFA4F1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2F1D3-0F47-43F8-A2D9-81249A34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31DBE-85D6-40E3-8A87-87E76BF8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98B81-406C-4CC3-8B12-27776B55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1749-F1BE-4A3F-8130-9633005D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059A8-876B-4202-820D-876C4329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2D10E-175B-46BE-AD51-1EC85C70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7A8E4-AE3F-45A2-89A3-009324A0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EE032-E954-494D-AAF1-F1BBB75F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375E7-1E0A-420B-86A2-AD5F73FD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220BE-D35B-4FD1-837B-CF55FF97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8073E-091C-4B2D-8866-1F1D752A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FE109-260A-4BB1-BB4D-1846F417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BDB3D-AE74-4518-B035-FA5B8B67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BA8DE-CA07-4C36-AC79-238661FC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CF32-AEF0-4C44-AA7F-B5B0EC00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83630-9134-4ED5-90C5-A13FE75F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5E425-0C24-4190-BE47-764ED1337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D304B-69B0-4486-938B-8D652956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0A34A-8049-4964-91BB-9922B024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A7A9C-737D-4A90-B447-84CBFBDE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62F16-6D91-45FE-95BE-B557BD6C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2D34F-2CA6-40E2-AE49-EE945330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15687-D6E0-4B22-8F14-392293D1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B1728-25F1-451B-8366-25E83483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70B94-F0BF-44BB-BBB2-45122803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D31-F4F1-4442-ACBF-4958330C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38087-5EBA-4804-9C2E-39DA8B39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9B5B3-F9FA-49AD-8D1F-A8D0C375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009D1-5834-4E62-A65E-CBF1FFAD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A4F0F-1DCC-4E45-A573-D321008C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75D39-C468-4EFC-914E-42559B6B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F3D07-2C6D-4409-AF25-DE3682AD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25A2F-8440-4E8F-A11C-ED3F86C7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79D0C-14A2-4B4D-9D62-76B87291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F2792-01BB-4D15-B3F9-262A58D7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91931-A834-4EF1-AC24-86005FDD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5F62-26C2-461B-A831-BDE59AA1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210D3-DC33-486F-B1A9-7B41C216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BE663-C757-4DA4-B7A0-1A6E4814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F5C00-31F3-4D71-83E3-9ECE57E3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7D9A3-81C9-4E60-A6F6-839165AE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ED3BF-1643-461E-A5DF-B03A7204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A9E4E-C663-4171-9106-EA39E0BD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C34D5-3B0B-4261-9C18-1E05B9A3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70953-C9E6-4E6E-B3E6-093E8037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F6E27-5344-4613-8E01-46BAF6E9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7F804-1AA1-4A54-9BD2-5288CA2B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DFB9-6F15-4100-9478-75A78BEFF15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7FAB-B32C-4909-BA16-BC08F3F0420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5C22-4B94-4D94-A366-034155AAB28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FAC2-FCC2-40DE-9BCC-7B729EBA9C1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0182-E97F-4B80-A161-EC47CAF17DA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F52F-AB9B-4E0E-81E6-F96E29EBAAD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A086-440F-48F7-86EB-7ED8F48AAE9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364A-9930-4163-948C-9FC228649FF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B4FA-C94D-4371-ACEE-CCFB1E8B4C1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7F90-C92F-4A4D-8BBE-8FE6FA655B0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47F4-FBD5-4D75-9A75-3C42BAE14B0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09A1-92A3-49BB-83CF-2754EA770BA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03 Mysli na tie časy dáv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ysli na tie časy dáv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a Pán Boh zjavov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čil svoj ľud, čo je správ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lásky zákon svoj im dal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a ctiť a poslúch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ížnych svojich milova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a ctiť a poslúch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ížnych svojich mil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ývaj Boha jediné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skú česť len jemu vzd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bázňou vyslov meno je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sobotu pamätaj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väteným časom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ích dietok znameni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väteným časom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ích dietok znam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ctu k otcovi i matk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aždom čase zachov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ĺžiš si žitie krátk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láske s blížnym nažív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ráň sa slov i činov zlý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äzkov hriešnych nečistých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ráň sa slov i činov zlý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äzkov hriešnych nečistý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adosť zlá, ni krádež nect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ktorého človek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lam a závisť, lživé zve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tana zbraň odvek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u k Bohu dokáže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ížneho keď miluješ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u k Bohu dokáže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ížneho keď miluješ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31T13:35:19Z</dcterms:modified>
  <cp:revision>21</cp:revision>
  <dc:subject/>
  <dc:title>Je veľký náš Pán, on slávy je Kráľ Nech do všetkých strán  spev vrúcnych znie chvál.</dc:title>
</cp:coreProperties>
</file>